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CB3-4927-4E6B-AB51-EB723983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35E-A59E-4247-ABE3-5407A65A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E76-DE79-47A9-87C7-E7B2683D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67D-B5E2-44CF-85FD-DAEED14A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385-EEE0-4193-8F45-3F70A197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4D4-6447-42EA-9813-3B59C05A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6C6-E642-4A6C-A278-06F1BAC2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52F-144D-44A8-8D80-4E9F40A3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AD8-E239-4EEA-84B5-B43989D7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05F-94EA-47AE-9782-AAF0F104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AE0-97A4-4911-821B-0623D2BF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6DA-87D7-4617-B6D8-61BAE002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8629-312E-4A11-B61D-65D72DC4E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near present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d by John Wilkes bo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in a log cab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ll him honest A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6:27:03Z</dcterms:created>
  <dc:creator>Carolyn Spielmann</dc:creator>
  <dc:description/>
  <dc:language>en-US</dc:language>
  <cp:lastModifiedBy>Carolyn Spielmann</cp:lastModifiedBy>
  <dcterms:modified xsi:type="dcterms:W3CDTF">2010-02-04T18:41:59Z</dcterms:modified>
  <cp:revision>4</cp:revision>
  <dc:subject/>
  <dc:title>Slide 1</dc:title>
</cp:coreProperties>
</file>